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3CF-EFCA-481A-9D89-0DCD476B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19A-CF1E-4229-A607-B66971D0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790-2D3B-430B-BBA3-39E1C4F4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B8F-36E8-410C-AC55-132CE2BF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A1EC-308B-4310-A17B-7D0E55D4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2DC-950B-4CBA-BA7A-B717D37E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E1E-4162-4E23-B0AE-55DDBAF1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157-3E84-48D3-8566-1F0BC952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65AF-F6EB-4069-94DF-9BA28849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4D5-1058-40A2-AFA2-2D4B08DA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C71-741D-4E60-B58D-CB95E7DE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A51-551F-4B7B-B678-40E30446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85CA-BB02-4F1A-9F4E-B1722FE6199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sfcr.cz/file/8258/" TargetMode="External"/><Relationship Id="rId2" Type="http://schemas.openxmlformats.org/officeDocument/2006/relationships/hyperlink" Target="https://forum.esfcr.cz/node/discussion.htm?ident=114&amp;1285767538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403280" y="2276640"/>
            <a:ext cx="70484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Jak správně n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br>
              <a:rPr sz="28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95280" y="1484280"/>
            <a:ext cx="84978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Např. pokud je metodika pro lektora nepoužitelná bez osnovy kurzu a příslušné učebnice, nelze za produkt považovat metodiku, nýbrž kurz jako celek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68280" y="1844640"/>
            <a:ext cx="849636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ají s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uze produkty vzniklé v rámci hlavních klíčových aktivit projekt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ikoliv např. propagační předměty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í nového/inovovaného produktu nutně znamená, že při tvorbě produktu vzniká nějaké nové duševní vlastnict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Počet úspěšných absolventů kurzů celkem/</a:t>
            </a:r>
            <a:br>
              <a:rPr sz="2800"/>
            </a:b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48.19.00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Počet proškolených o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95280" y="2066760"/>
            <a:ext cx="84978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22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délník 1"/>
          <p:cNvSpPr/>
          <p:nvPr/>
        </p:nvSpPr>
        <p:spPr>
          <a:xfrm>
            <a:off x="539640" y="1628640"/>
            <a:ext cx="799308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pro 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znevýhodněné skupiny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... na pracovní místo musí nastoupit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osoba ze znevýhodněné skupiny, která je v projektu chápána jako cílová skupi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místo vytvořené pro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 ženy 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se považuje takové pracovní místo, na které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jako první zaměstnankyně nastoupila žen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vytvořená pracovní místa se nepovažují místa, která vzniknou v rámci realizačního týmu projekt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Nostitelem nově vytvořených pracovních míst může být příjemce podpory, jeho projektový partner nebo jiný zaměstnavate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640" y="162828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nově vytvořených pracovních míst vykazujet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epočtený na „plné úvazky“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vytvoříte-li tři poloviční úvazky, bude hodnota indikátoru 1,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ými pracovními místy jsou místa vytvořená v rámci projektu v souladu se stanovenými pravid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podpořené formou úhrady mzdových náklad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pro sebezaměstnání (OSVČ) podpořené prostřednictvím vzdělávání a podpůrných služ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vytvořené v souvislosti s projektem, za předpokladu, že toto místo není financováno z jiných veřejných zdro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62864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vytvořených pracovních míst musí představova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čisté přírůstky pracovních míst v organizaci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oproti průměru za posledních 12 měsíc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přirozenou fluktuaci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ohu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ykázat jako vytvořená mí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ožadavek podle předchozí věty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usí být splněn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v případě poskytování mzdových příspěvk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znevýhodněným nebo zdravotně postiženým zaměstnancům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 případě, kdy k čistému nárůstu nedojde výhradně kvůli tomu, že dotyčné pracovní místo muselo být uprázdněno z důvodu dobrovolného odchodu, tělesného postižení, odchodu do důchodu z důvodu věku, dobrovolného zkrácení pracovní doby nebo dovoleného propuštění pro porušení pracovních povinnost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43.05.00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vytvořených partnerstv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binární indikátor „hloubky“ partnerství ( sleduje vytvořená místní partnerství, tématické sítě, mezinárodní partner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dosažená hodnota může být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uze 0 neb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1 – v rámci projektu byl na základě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mezinárodní spolupráce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vytvořen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společný produ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0 – ve všech ostatních případ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nedosáhnu cílové hodno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95280" y="165888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onkrétní způsob vyčíslení sankce je v Metodice monitorovacích indikátorů (kapitola 4), obecně 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tup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8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ledk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7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413000"/>
            <a:ext cx="85168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maximálně ve výši 120%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ůvodně plánované hodno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Několikanásobné překročení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cílových hodnot není výhodo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3645000"/>
          <a:ext cx="8569080" cy="2247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2249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říklad z metodiky D8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případě, že projekt předpokládá splnění tří indikátorů výstupů, kdy bude dosažená hodnota prvn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 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, druhé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% a třet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ůvodního plánu, vypočítá se průměr z těchto hodnot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 %, 10 %, 35 %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 dosažených hodnot indikátorů činí 55 %, čemuž odpovídá sankce ve výši 18 - 22 % z hodnoty dota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55640" y="1197000"/>
            <a:ext cx="74376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sledovat a vykazovat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i v tomto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detailním členění</a:t>
            </a:r>
            <a:r>
              <a:rPr b="1" i="1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např. podle pohlaví, podle postavení na trhu práce apod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95280" y="1125360"/>
            <a:ext cx="864252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95280" y="1658880"/>
            <a:ext cx="82296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ílčí členění se týká indikátor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sob (velmi složité členě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rganizací (členění podle typu organiz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úspěšných absolventů kurzů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roškolených osob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šechny tyto indikátory jsou včetně definic uvedeny v kapitole 6 Metodiky monitorovacích indikátorů (D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1658880"/>
            <a:ext cx="792000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indikátor se dále člení p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hlav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stavení na trhu práce, (OSVČ, nezaměstna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role (klienti služeb = znevýhodněné skupiny, poskytovatelé služeb = ti, kteří se znevýhodněnými pracují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ě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typu znevýhodnění (menšiny, zdravotně postiže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zdělán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úspěšnosti podpory (úspěšně podpořené osob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eportujte vždy o skupinách, které jsou cílovými skupinami Vašeho projekt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95280" y="1658880"/>
            <a:ext cx="82296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 rámci podmnožin základních indikátorů mohou nastat situace, kdy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jednu skutečnost je nutné uvést v podrobném členění do více indikátor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dlouhodobě nezaměstnaný zdravotně postižený muž z etnické menšiny ve věku 56 let s dokončenou střední školou je zahrnut v indikátore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0 (podpořená osoba)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1 (muž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7 (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6 (dlouhodobě 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19 (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starší pracovník 55-64 le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42 (střední škola – ISCED 3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5 (menšina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7 (zdravotně postižený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 – 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81080" y="1658880"/>
            <a:ext cx="878364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D8 – Metodika monitorovacích ind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ESF Forum – Diskusní klub „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Monitorování a informační systémy; indikátory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3.4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39640" y="1773360"/>
          <a:ext cx="8229600" cy="380988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 indent="-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 míst pro znevýhodněné skupiny - 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míst pro znevýhodněné skupiny - ž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5.1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26859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vytvořených partners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19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roškolených os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95280" y="16588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Každá osoba je v </a:t>
            </a: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rámci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projektu započítává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, bez ohledu na to, kolik podpor obdrž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Účastník tří školení a půlroční stáže tedy vydá pouze za jednu podpořenou osobu, stejně jako osoba, která jednou využila konzultačních služ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pora je jakákoliv aktivita financovaná z rozpočtu projektu, ze které mají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cílové skupiny prospěch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 to na úrovni např. vzdělávacího nebo rekvalifikačního kurzu, stáže, odborné konzultace, poradenství, školení, prax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95280" y="177336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utnost identifikace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 podpořenou osobu proto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 nelze považovat anonymní osobu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s neprokazatelným prospěchem,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tj. osobu, která dostala např. leták, bulletin nebo hromadný em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Co když ho jeden a ten samý člověk dostal třikrát? Co když ho příjemce vůbec nepřečetl? Jak charakterizujete člověka jen podle emailové adresy v povinném dílčím členění indikátoru?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9280" y="1628640"/>
            <a:ext cx="8713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ástroje pro prokazování počtu podpořených osob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ezenční listiny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urzů, seminářů a skupinových aktivi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karty klienta či adresář klient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např. u osobních poradenských aktiv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adresář klientů a archivovaná elektronická korespondence nebo výpis telefonních hovor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onzultací po e-mailu nebo telefon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Formu si volí projekt dle své úvahy tak, aby dostál povinnosti mít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okazatelný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očet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Doporučení: Mějte na prezenčních listinách u podpořených osob kromě jména a příjmení také kontakt a datum naroze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Lze mezi podpořené osoby počítat osoby projektového tým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Členové projektového týmu nejsou podpořené osob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řazeni by zde mohli být pouze v případě, kdy by oni sami byli kromě projektového týmu zároveň také cílovou skupin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apř. může nastat situace, kdy jedna osoba, např. terénní pracovník, je zároveň členem týmu (pracuje s klienty z cílových skupin) a zároveň je cílovou skupinou (protože projekt mimo jiné organizuje vzdělávací kurz pro terénní pracovník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podpořených organizací - celk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 tohoto hodnoty tohoto indikátoru se zahrnuje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příjemce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uvedených v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ř.: Pokud má žadatel dva české partnery bude hodnota tohoto ukazatele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ška</cp:lastModifiedBy>
  <cp:lastPrinted>2012-11-27T07:57:09Z</cp:lastPrinted>
  <dcterms:modified xsi:type="dcterms:W3CDTF">2012-12-07T10:48:37Z</dcterms:modified>
  <cp:revision>43</cp:revision>
  <dc:subject/>
  <dc:title>Snímek 1</dc:title>
</cp:coreProperties>
</file>